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4ABFAC4-3DDC-473A-984B-212BA6A150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14280" y="1371600"/>
            <a:ext cx="8026560" cy="0"/>
          </a:xfrm>
          <a:prstGeom prst="line">
            <a:avLst/>
          </a:prstGeom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14280" y="0"/>
            <a:ext cx="9134640" cy="68486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000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38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4280" y="3429000"/>
            <a:ext cx="8026560" cy="0"/>
          </a:xfrm>
          <a:prstGeom prst="line">
            <a:avLst/>
          </a:prstGeom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174680" y="1066680"/>
            <a:ext cx="5997600" cy="40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for Unix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36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Andrew Tridgell</a:t>
            </a:r>
            <a:br>
              <a:rPr sz="3600"/>
            </a:br>
            <a:r>
              <a:rPr b="0" lang="en-US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amba-team@samba.anu.edu.a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8048520" y="324000"/>
            <a:ext cx="1127160" cy="2620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514440" y="237960"/>
            <a:ext cx="80028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Unix CIFS Cli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diverse implement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client is ftp-lik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fs is kernel ba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lib is a portable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CIFS clients are not widely used beca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authentication interface is awkwa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servers lack full unix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ode numbers, links and permissio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cli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49280" y="1676520"/>
            <a:ext cx="7728120" cy="425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igned as a diagnostic to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little sanity chec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e command line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ily exten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ily change packets at the bit/byt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 has other u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ed backups of PCs to Uni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ing gateway from Unix to P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d in scripts for installation/monito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ssaging via WinPop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f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true SMB filesystem for Linu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 ba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grates with VFS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words supplied at mount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s only a small subset of SMB feat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lib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portable SMB libr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ims to integrate into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ll eventualy replace smbcli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-transport de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 has other u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admin t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torture tes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Policy versus Protoco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FS specifies a lot of policy i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gal/illegal filena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’t delete read-only f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: Building a better SMB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 is work to do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separate application API from file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functions need consolida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ecification need to be very detail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authentication model need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Beyond a filesyst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the Internet enviro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 model isn’t always ide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s often have rotten network efficien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s is often the applications fau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data update mech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algorithms are needed - rsync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Referenc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b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samba.canberra.edu.au/pub/samb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ba survey: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samba.canberra.edu.au/pub/samba/surv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urce code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tp://samba.anu.edu.au/pub/samb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The SMB Herita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is the DOS/Windows API on the wi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gets extended in parallel with Windo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implicitly assumes many DOS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rich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API i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ver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iffe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ch simpler AP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VFS layer is sm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695160" y="26676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Is there demand for CIFS on Unix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es! The Samba Survey shows th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ggest users are corpor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rgest site has 15000 users on 1200 ser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porate and business users make up over 50% of respond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ividual users contribute only 4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ten used beside non-unix servers (mostly N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tforms dominated by SunOS and Linu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st common “wish list” is full NT domain security integ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Writing a CIFS serv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implementor must decide 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ct emulation or unix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 or user space implem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 model - one client per proces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strategy is needed f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er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tribute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racter s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name mapp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Security Issu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CIFS server must be parano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file operations done as non-ro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nity check all oper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and CIFS security models are very diffe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word synchronisation probl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/share/server security - none fit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What the spec doesn’t tell yo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om the spec you may not realise th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owsing and IPC calls are essential, but currently undocumen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king is used in very unusual w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 handling is unusu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y applications assu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S/Windows directory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 loops don’t ex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names are case in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tarting from scratc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e both a client and a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ou need a client you can modif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test unusual situ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probe existing ser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an extensible sniff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 to the sniffer as you lear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n’t assume existing sniffers are corr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More proble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 are lots more thorny issues to deal wi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king in unix is a m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are modes don’t ex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ory/file permissions are totally differ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xt format is differ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 privilaged ports must be observ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blem with firew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blem with name status que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for Unix to Unix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CIFS viable for Unix to Unix connection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really, at least not y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is need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ft links, unix attributes, uids, gi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ode numbers, device f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authent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lementation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ndrew Tridgell</dc:creator>
  <dc:description>DRAFT ONLY - V3</dc:description>
  <dc:language>en-US</dc:language>
  <cp:lastModifiedBy>Susan</cp:lastModifiedBy>
  <cp:revision>0</cp:revision>
  <dc:subject/>
  <dc:title>SMB on Unix</dc:title>
</cp:coreProperties>
</file>